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D8A-AFB5-442A-AFE9-81A3378B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4A6-D650-4E6E-820E-D948027C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ED4-26F9-4506-A0D6-5B73F8ED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D9F-D279-431E-898B-E69EDFE0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9069-1028-42F6-852C-D083A692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0D5E-883F-4315-BE52-D1FF3CCF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7187-034E-41B8-9D7C-F64C688F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59B9-F5E6-4CCB-A264-CD90E9F5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4749-055E-4B66-AF38-A4941DD3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7C86-DFA9-4DAA-B6AE-9BAF7E51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EA4C-4FEA-4570-A613-0402409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710-5A08-4D85-9517-6AA4B000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E2A4-9C06-4CE6-9AE6-526A1C62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D3CC-8427-4517-B488-8B9A9502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D740-1E8F-411F-BC6D-22C849DB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A99C-3115-4E47-A6BE-FD5060B5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76B8-8DB4-406A-A55E-31257BA1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6AF-C81B-446D-9F5C-220295E8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5AB-4140-4790-8C94-3B7D486C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4C5-1BB5-4425-BACC-1B830C79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474-E67F-4A0A-B3C1-95EE2108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F68-7DA1-469B-86A9-56B40C77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969-9497-4539-A2E1-8FF40BD2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9D1-FB0E-4D72-9C2C-44D88828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FBB8-60E0-4A71-9972-BD001CA1B2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A9D-673B-4035-89F9-20855467F5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ime Management &amp; Planner Us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You think you know…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ily Schedule – Create Your Ow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5929" r="0" b="2219"/>
          <a:stretch/>
        </p:blipFill>
        <p:spPr>
          <a:xfrm>
            <a:off x="1447920" y="2133720"/>
            <a:ext cx="661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ime Management - Brainst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use your planner?  Any trick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ner 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ck the right plan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the planner a part of your daily rou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l in your assignment dates as soon as you know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reminders in your planner of upcoming due d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or code, highlighter, stickers, post-its, fla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discard old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re Planner 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t EVERYTHING in your plan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gular blocks of homework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signment due d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st d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nces, parties, dates, celebr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mily gatherings, vacations, excur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SAT test d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gn-up deadli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es – due d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lid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ege visitation d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eling of Accomplish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oritize your activities from greater to lesser import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n’t be discouraged if activities have to be changed – schedule is a guideline so be flex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n’t change order to accommodate tasks of lesser importance -i.e. don’t go to the movies with your friends, instead of  studying for a test.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ep scheduling even if your plans have to be altered (Doctors don’t stop scheduling office appointments simply because they are called out on an emergency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it to using your planner for the next two wee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 Leaders will help you evaluate how well you did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Use a Planner? - Brainst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Use a Plann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ome aware of how you use your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eling of accomplish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480" y="83412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ecome aware of how you use your tim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Management Quiz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200400"/>
            <a:ext cx="769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y times students have not had to manage their time efficiently prior to high school.  This may not be a problem in middle school for them, and may not even be a problem in high school, but it may become a huge problem by the time they get to college.  Learning to use your time more effectively usually translates into higher grades and less stres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60920" indent="-160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60920" indent="-160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ke a mark each time one of the statements on the following pages applies to you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me Management Quiz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usually get up when my alarm goes off the first time in the morning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have time to eat breakfas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’m ready to catch my ride in the morning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turn in my assignments and projects completed and by the due dat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am on time for my first class about 95% of the tim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arrive on time for practices, sports events, club meetings, and other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tracurricular activiti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know where to locate important papers in my backpack or at hom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complete chores or job assignments thoroughly and completel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correctly estimate the amount of time it takes to complete a job, task, o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ignm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At the beginning of each week I estimate how many hours I will need t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udy that week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ime Management Quiz, co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begin long-term projects earl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write a daily “to do” lis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I prevent social activities from interfering with my study tim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I do not have a job requires me to work more than 10 hours a week at a jo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set specific goals each time I start to stud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I begin study time with my most difficult assignm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I have a set place to study, always from distractions (e.g. television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I try to complete most of my studying during my most productive hours eac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never allow my participation in sports to keep me from completing my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ignment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think of being a student as a full-time jo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oring Your Qui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828440" y="33523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 yourself 1 point for each state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at you mark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You Ra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819520"/>
            <a:ext cx="75438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0 – 8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Time Management NOT!  You need to get yourself in gear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9 – 1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Not too bad, but you can make your life a lot easier with a few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e chang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– 2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ke time to keep up the good work.  Recognize the things tha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ou do to manage your time wisel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14680" y="8150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Daily Sched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38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10:13Z</dcterms:created>
  <dc:creator>TECH</dc:creator>
  <dc:description/>
  <dc:language>en-US</dc:language>
  <cp:lastModifiedBy>ASD</cp:lastModifiedBy>
  <dcterms:modified xsi:type="dcterms:W3CDTF">2010-06-03T19:08:20Z</dcterms:modified>
  <cp:revision>2</cp:revision>
  <dc:subject/>
  <dc:title>Time Management &amp; Planner Use</dc:title>
</cp:coreProperties>
</file>